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D3C-51D3-4CD1-B571-E207CFF9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D4C-4AF8-4606-B0CE-E58B0B9E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841-B608-4122-860B-1B43AF64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441-EAD1-437E-9243-A0AE70BF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D30-0008-4933-A3BC-BD63336A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897-7CED-42FD-A5BC-EBB4761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689-6ED2-4ED6-B188-9184539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486E-31FE-43F9-AFB7-83D6DBD5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AB96-F8BA-46A5-9C6F-EFE013C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9900-AD8E-4A1F-A642-81F3B1C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A70B-ACCE-47CC-878A-04092AA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0F1-E073-41D1-945A-F86340A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120-6C9C-4628-BF34-41ED7CB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57E-C8FE-42D3-9196-906C1472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B64B-5FEB-4FCE-A538-2327ED4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CD8-E433-4129-A946-F14F2508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BCE-7AEB-4521-BB9D-B6FC589E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0FD-90B1-45EE-969F-5FA078B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7B2-CA92-4D50-9AE0-B9B0BFFC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A6E-713F-4A14-9778-83C2966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415-F9D1-4BE5-923D-976C5DB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8CF-5BCA-45BF-A269-C9B2960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2C8-1DA1-4578-99B1-9286048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AD4-D1DC-448E-9FDE-F2DDD97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FD0-9697-4D3C-ACCC-6D4B4A91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364-F5F0-4F59-BA70-F7AFFF9E1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ocabulary Slideshow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IDE your desk over adjacent to your part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tch the picture provided with the CH 11 vocabulary that it symbol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TALIAT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– to take reveng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ATAN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very obvious, unmistakabl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127960" y="38088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U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very thin, skin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69404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0040" y="152280"/>
            <a:ext cx="53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R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mixed up, jumb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he point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og_cheating_cat_school_test_hg_clr"/>
          <p:cNvPicPr/>
          <p:nvPr/>
        </p:nvPicPr>
        <p:blipFill>
          <a:blip r:embed="rId1"/>
          <a:stretch/>
        </p:blipFill>
        <p:spPr>
          <a:xfrm>
            <a:off x="1981080" y="14479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56000" y="53352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GIA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EALING OTHERS’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00800" cy="5168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46120" y="617220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K, SORRY FOR POOPING ON YOUR B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17760" y="228600"/>
            <a:ext cx="57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L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guilty feeling, rem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1760" y="45720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LO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OVERLY SELF- CONFIDENT, B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504960"/>
            <a:ext cx="1295280" cy="75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IGH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omething that harms, hurt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CONTR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to think up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IMMACULAT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potless, super clea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8:36Z</dcterms:created>
  <dc:creator>El Cajon Valley High School</dc:creator>
  <dc:description/>
  <dc:language>en-US</dc:language>
  <cp:lastModifiedBy>Mcadwell</cp:lastModifiedBy>
  <dcterms:modified xsi:type="dcterms:W3CDTF">2012-04-09T16:29:13Z</dcterms:modified>
  <cp:revision>5</cp:revision>
  <dc:subject/>
  <dc:title>Vocabulary Slidesh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ccReLs4yfeen_okYUrp0XlK3tjl7Ss6aq3ud9Fcvfh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4657418115297938488</vt:lpwstr>
  </property>
  <property fmtid="{D5CDD505-2E9C-101B-9397-08002B2CF9AE}" pid="6" name="Google.Documents.Tracking">
    <vt:lpwstr>true</vt:lpwstr>
  </property>
</Properties>
</file>